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8AD9-C0A0-4335-9B2D-CF9EAE60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F6A-D02E-44C5-A5F6-E0624815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F77-98A8-4930-AC3D-8100F923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0C4-FF94-4E11-9D6B-58805387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C39-8419-40EC-942E-24F8DDED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677E-358E-4B80-9584-12EF0A8C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25B-8487-4D3A-808B-3CF49C91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F0D-4DD8-42EA-BB99-E9019ACD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645-C382-46BD-B5A9-02987330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7217-5D6B-4E38-8C73-934FE15D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88D4-498E-4FE1-B5D6-A69BBD0D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13F-27C2-4E25-B721-66319A81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80CD-CF05-4D61-B911-912D87796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873" t="24002" r="21251" b="10000"/>
          <a:stretch/>
        </p:blipFill>
        <p:spPr>
          <a:xfrm>
            <a:off x="152280" y="1143000"/>
            <a:ext cx="8763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4:39:18Z</dcterms:created>
  <dc:creator>za04499</dc:creator>
  <dc:description/>
  <dc:language>en-US</dc:language>
  <cp:lastModifiedBy>za04499</cp:lastModifiedBy>
  <dcterms:modified xsi:type="dcterms:W3CDTF">2009-03-02T14:39:27Z</dcterms:modified>
  <cp:revision>1</cp:revision>
  <dc:subject/>
  <dc:title>Slide 1</dc:title>
</cp:coreProperties>
</file>